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C9E-1F4E-4AD2-936D-B0EA5FF9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AC4-2506-434B-9C42-3F4EBF09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172-183A-40E1-8E4A-FBCEE524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C5F-5D9B-4BBD-AA48-2470C02E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14A-B36B-48AA-A845-5C687BD9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2CC-6773-45C0-8696-783E0D3A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C56-67E6-49B3-B985-13135F27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A6B-6F2F-4752-8C8F-810919E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1CD-AB8C-4E50-A791-64A97739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04F-DE87-4697-B477-F6051AD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45F-392A-496F-A77C-27C8FD81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400-5C8F-48C3-A6DD-AB7F89C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30F-57BB-4AFE-8C1D-018D605AA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ere a …    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is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A00911_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384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re there any +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复数 …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are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A00907_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590480" cy="1606680"/>
          </a:xfrm>
          <a:prstGeom prst="rect">
            <a:avLst/>
          </a:prstGeom>
          <a:ln w="0">
            <a:noFill/>
          </a:ln>
        </p:spPr>
      </p:pic>
      <p:pic>
        <p:nvPicPr>
          <p:cNvPr id="83" name="NA01573_" descr=""/>
          <p:cNvPicPr/>
          <p:nvPr/>
        </p:nvPicPr>
        <p:blipFill>
          <a:blip r:embed="rId2"/>
          <a:stretch/>
        </p:blipFill>
        <p:spPr>
          <a:xfrm>
            <a:off x="7912080" y="511668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520" y="-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’s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piano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am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the de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e there any pictures on the w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 are on the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mall tabl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5486400" cy="703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V set /recorder /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762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desk, a chair and a small table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905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is. It’s against the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97180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, there isn’t. But there’s a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la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between the bed and the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9625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5029200"/>
            <a:ext cx="39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u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A00910_" descr=""/>
          <p:cNvPicPr/>
          <p:nvPr/>
        </p:nvPicPr>
        <p:blipFill>
          <a:blip r:embed="rId1"/>
          <a:stretch/>
        </p:blipFill>
        <p:spPr>
          <a:xfrm>
            <a:off x="0" y="0"/>
            <a:ext cx="116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… .There is a … i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… is  beside/between/… the …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NA00908_" descr=""/>
          <p:cNvPicPr/>
          <p:nvPr/>
        </p:nvPicPr>
        <p:blipFill>
          <a:blip r:embed="rId1"/>
          <a:stretch/>
        </p:blipFill>
        <p:spPr>
          <a:xfrm>
            <a:off x="7772400" y="0"/>
            <a:ext cx="1657440" cy="1488960"/>
          </a:xfrm>
          <a:prstGeom prst="rect">
            <a:avLst/>
          </a:prstGeom>
          <a:ln w="0">
            <a:noFill/>
          </a:ln>
        </p:spPr>
      </p:pic>
      <p:pic>
        <p:nvPicPr>
          <p:cNvPr id="96" name="NA00882_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A01107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02436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 rot="20105400">
            <a:off x="1752480" y="1294920"/>
            <a:ext cx="59436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-bye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s and roo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12 What’s in your apart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0863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737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你的客厅里有什么？我的客厅里有两个沙发、一个茶几、 一台电视机和一架钢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卧室里有什么？有一个床、一把椅子和一个书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桌上有什么？ 有一些茶杯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096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your living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sofas,a tea table and a p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886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the bed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chair and a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on the desk?There are some cups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A01573_" descr=""/>
          <p:cNvPicPr/>
          <p:nvPr/>
        </p:nvPicPr>
        <p:blipFill>
          <a:blip r:embed="rId1"/>
          <a:stretch/>
        </p:blipFill>
        <p:spPr>
          <a:xfrm>
            <a:off x="7912080" y="512460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i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lamp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on the des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Yes , there is./No, there isn’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There is a lamp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between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bed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and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sof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H01669_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524240" cy="1330200"/>
          </a:xfrm>
          <a:prstGeom prst="rect">
            <a:avLst/>
          </a:prstGeom>
          <a:ln w="0">
            <a:noFill/>
          </a:ln>
        </p:spPr>
      </p:pic>
      <p:pic>
        <p:nvPicPr>
          <p:cNvPr id="54" name="HH01228_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19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3276720" cy="1735200"/>
          </a:xfrm>
          <a:prstGeom prst="rect">
            <a:avLst/>
          </a:prstGeom>
          <a:ln w="0">
            <a:noFill/>
          </a:ln>
        </p:spPr>
      </p:pic>
      <p:pic>
        <p:nvPicPr>
          <p:cNvPr id="57" name="HH00741_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905040" cy="18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59092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bed ? It’s near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 bed near the do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 chair </a:t>
            </a:r>
            <a:r>
              <a:rPr b="0" lang="en-US" sz="4800" spc="-1" strike="noStrike">
                <a:solidFill>
                  <a:srgbClr val="ff5050"/>
                </a:solidFill>
                <a:latin typeface="Times New Roman"/>
              </a:rPr>
              <a:t>bes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des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,there is .It’s beside the desk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288_" descr=""/>
          <p:cNvPicPr/>
          <p:nvPr/>
        </p:nvPicPr>
        <p:blipFill>
          <a:blip r:embed="rId1"/>
          <a:stretch/>
        </p:blipFill>
        <p:spPr>
          <a:xfrm>
            <a:off x="6573960" y="609480"/>
            <a:ext cx="25700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pia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t’s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N00544_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668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is a lamp </a:t>
            </a: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abo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he des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S00288_" descr=""/>
          <p:cNvPicPr/>
          <p:nvPr/>
        </p:nvPicPr>
        <p:blipFill>
          <a:blip r:embed="rId1"/>
          <a:stretch/>
        </p:blipFill>
        <p:spPr>
          <a:xfrm>
            <a:off x="6095880" y="3189240"/>
            <a:ext cx="3048120" cy="2984400"/>
          </a:xfrm>
          <a:prstGeom prst="rect">
            <a:avLst/>
          </a:prstGeom>
          <a:ln w="0">
            <a:noFill/>
          </a:ln>
        </p:spPr>
      </p:pic>
      <p:pic>
        <p:nvPicPr>
          <p:cNvPr id="68" name="HH00828_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82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HH01672_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6844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AN02354_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2" name="AN02354_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AN02354_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4" name="AN02354_" descr=""/>
          <p:cNvPicPr/>
          <p:nvPr/>
        </p:nvPicPr>
        <p:blipFill>
          <a:blip r:embed="rId5"/>
          <a:stretch/>
        </p:blipFill>
        <p:spPr>
          <a:xfrm>
            <a:off x="5562720" y="35053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5" name="AN02354_" descr=""/>
          <p:cNvPicPr/>
          <p:nvPr/>
        </p:nvPicPr>
        <p:blipFill>
          <a:blip r:embed="rId6"/>
          <a:stretch/>
        </p:blipFill>
        <p:spPr>
          <a:xfrm>
            <a:off x="7620120" y="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6" name="HH01672_" descr=""/>
          <p:cNvPicPr/>
          <p:nvPr/>
        </p:nvPicPr>
        <p:blipFill>
          <a:blip r:embed="rId7"/>
          <a:stretch/>
        </p:blipFill>
        <p:spPr>
          <a:xfrm>
            <a:off x="6400800" y="380880"/>
            <a:ext cx="3268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2:15:19Z</dcterms:created>
  <dc:creator>jxh</dc:creator>
  <dc:description/>
  <dc:language>en-US</dc:language>
  <cp:lastModifiedBy>jxh</cp:lastModifiedBy>
  <dcterms:modified xsi:type="dcterms:W3CDTF">2002-05-22T14:59:36Z</dcterms:modified>
  <cp:revision>20</cp:revision>
  <dc:subject/>
  <dc:title>Revision </dc:title>
</cp:coreProperties>
</file>